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A5D3-EFE6-4BEC-A0A8-2B0B69BE0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306A-5202-4F78-B957-5F61EC4D2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C6DB-85FD-41BB-A345-054E870B7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83BB-FC3A-471E-88E6-4481088FA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3BF7-977C-4DA0-AF9B-3A6906BE4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B5C8-0AAA-46DD-B83A-2C257C64F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AB96-B329-46CD-A3ED-5CCD7A7C6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6375-F354-42E2-B7A2-95BD2B0E0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A381-5B23-438D-80B2-5F9C3D996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85CE-F0E0-418F-97CC-CAC0E6A81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FA45-17C2-4B26-B0CE-BB632B041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EA38-2983-44ED-BCD1-F0D6B1BE0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20A1F-66B2-46F9-BB6F-2ACC473F80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Text Box 2"/>
          <p:cNvGrpSpPr/>
          <p:nvPr/>
        </p:nvGrpSpPr>
        <p:grpSpPr>
          <a:xfrm>
            <a:off x="6480" y="6480"/>
            <a:ext cx="9137520" cy="6156360"/>
            <a:chOff x="6480" y="6480"/>
            <a:chExt cx="9137520" cy="6156360"/>
          </a:xfrm>
        </p:grpSpPr>
        <p:pic>
          <p:nvPicPr>
            <p:cNvPr id="42" name="Text Box 2" descr=""/>
            <p:cNvPicPr/>
            <p:nvPr/>
          </p:nvPicPr>
          <p:blipFill>
            <a:blip r:embed="rId1"/>
            <a:stretch/>
          </p:blipFill>
          <p:spPr>
            <a:xfrm>
              <a:off x="6480" y="6480"/>
              <a:ext cx="9137520" cy="61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" name="Text Box 3"/>
          <p:cNvSpPr/>
          <p:nvPr/>
        </p:nvSpPr>
        <p:spPr>
          <a:xfrm>
            <a:off x="11160" y="6559560"/>
            <a:ext cx="9144000" cy="30708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Волковского сельсовета Железногор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35"/>
          <p:cNvSpPr/>
          <p:nvPr/>
        </p:nvSpPr>
        <p:spPr>
          <a:xfrm>
            <a:off x="0" y="23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Бюджет для граждан</a:t>
            </a:r>
            <a:br>
              <a:rPr sz="3200"/>
            </a:b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к проекту решения собрания депутатов Волковского сельсовета Железногорского района Курской области «Об исполнении бюджета муниципального образования «Волковский сельсовет» Железногорского района Курской области за 2020 год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сполнение расходной части бюджета муниципального образования «Волковский сельсовет»  составило 98,4%. Утверждено на 2020 год – 5322,5 тыс.рублей, фактически израсходовано 5238,8 тыс.рублей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   Наибольший удельный вес в структуре расходов приходится на подразделы: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- 0801 «Развитие культуры» – 19 % (995,4 тыс.рублей)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- 0104 «Функционирование местных администраций» – 21,4% (1117,1 тыс.рублей)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- 0409 «Дорожное хозяйство» - 18,8 % (982,4 тыс. рублей)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-0503 «Благоустройство» – 16,5% (866,5 тыс.рублей)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сходы на оплату труда с начислениями составили 1872,7 тыс.рублей. Доля оплаты труда с начислениями в расходах местного бюджета в 2020 году составляет 35,8 %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   Задолженности бюджета муниципального образования по финансированию заработной платы, отчислениям во внебюджетные фонды, социальным выплатам не имеется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   По итогам 2020 года бюджет исполнен с дефицитом (превышение произведенных расходов над полученными  доходами) в сумме 2569 тыс.рублей. лей. По состоянию на 01.01.20210 года  остатки средств составили 3156,8 тыс. рублей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  В 2020 году на территории Волковского сельсовета 7 муниципальных  целевых программ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 В соответствии со ст. 81 Бюджетного кодекса РФ, Положением о порядке создания средств резервного Фонда администрации Волковского сельсовета, в бюджете на 2020 год по разделу 0111 «Резервный фонд» предусмотрено финансирование в сумме 20,0 тыс.рублей. В 2020 году из средства резервного фонда не расходовались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Text Box 2"/>
          <p:cNvGrpSpPr/>
          <p:nvPr/>
        </p:nvGrpSpPr>
        <p:grpSpPr>
          <a:xfrm>
            <a:off x="6480" y="0"/>
            <a:ext cx="9137520" cy="6151680"/>
            <a:chOff x="6480" y="0"/>
            <a:chExt cx="9137520" cy="6151680"/>
          </a:xfrm>
        </p:grpSpPr>
        <p:pic>
          <p:nvPicPr>
            <p:cNvPr id="131" name="Text Box 2" descr=""/>
            <p:cNvPicPr/>
            <p:nvPr/>
          </p:nvPicPr>
          <p:blipFill>
            <a:blip r:embed="rId1"/>
            <a:stretch/>
          </p:blipFill>
          <p:spPr>
            <a:xfrm>
              <a:off x="6480" y="1080"/>
              <a:ext cx="9137520" cy="614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6480" y="0"/>
              <a:ext cx="9137520" cy="615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3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Волковского сельсовета Железногор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35"/>
          <p:cNvSpPr/>
          <p:nvPr/>
        </p:nvSpPr>
        <p:spPr>
          <a:xfrm>
            <a:off x="0" y="23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8000" y="2016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r>
              <a:rPr b="1" lang="ru-RU" sz="1300" spc="-1" strike="noStrike">
                <a:solidFill>
                  <a:srgbClr val="ff0000"/>
                </a:solidFill>
                <a:latin typeface="Calibri"/>
              </a:rPr>
              <a:t>Структура расходов бюджета </a:t>
            </a:r>
            <a:r>
              <a:rPr b="1" lang="ru-RU" sz="1300" spc="-1" strike="noStrike">
                <a:solidFill>
                  <a:srgbClr val="ff0000"/>
                </a:solidFill>
                <a:latin typeface="Arial"/>
              </a:rPr>
              <a:t> муниципального образования «Волковский сельсовет»</a:t>
            </a:r>
            <a:r>
              <a:rPr b="1" lang="ru-RU" sz="1300" spc="-1" strike="noStrike">
                <a:solidFill>
                  <a:srgbClr val="ff0000"/>
                </a:solidFill>
                <a:latin typeface="Calibri"/>
              </a:rPr>
              <a:t> по разделам </a:t>
            </a:r>
            <a:r>
              <a:rPr b="1" lang="ru-RU" sz="1300" spc="-1" strike="noStrike">
                <a:solidFill>
                  <a:srgbClr val="ff0000"/>
                </a:solidFill>
                <a:latin typeface="Arial"/>
              </a:rPr>
              <a:t>бюджетной </a:t>
            </a:r>
            <a:r>
              <a:rPr b="1" lang="ru-RU" sz="1300" spc="-1" strike="noStrike">
                <a:solidFill>
                  <a:srgbClr val="ff0000"/>
                </a:solidFill>
                <a:latin typeface="Calibri"/>
              </a:rPr>
              <a:t>классификации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647640" y="1212840"/>
          <a:ext cx="7848720" cy="3235320"/>
        </p:xfrm>
        <a:graphic>
          <a:graphicData uri="http://schemas.openxmlformats.org/drawingml/2006/table">
            <a:tbl>
              <a:tblPr/>
              <a:tblGrid>
                <a:gridCol w="1785960"/>
                <a:gridCol w="4160880"/>
                <a:gridCol w="1901880"/>
              </a:tblGrid>
              <a:tr h="523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д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0 </a:t>
                      </a: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779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38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егосударственные  вопрос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36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79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оборо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1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безопасность и правоохранительная деятельно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20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экономи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2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лищно-коммунальное хозяйств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6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18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ультура, кинематограф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5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79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циальная полити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2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Text Box 2"/>
          <p:cNvGrpSpPr/>
          <p:nvPr/>
        </p:nvGrpSpPr>
        <p:grpSpPr>
          <a:xfrm>
            <a:off x="6480" y="6480"/>
            <a:ext cx="9131040" cy="6156360"/>
            <a:chOff x="6480" y="6480"/>
            <a:chExt cx="9131040" cy="6156360"/>
          </a:xfrm>
        </p:grpSpPr>
        <p:pic>
          <p:nvPicPr>
            <p:cNvPr id="142" name="Text Box 2" descr=""/>
            <p:cNvPicPr/>
            <p:nvPr/>
          </p:nvPicPr>
          <p:blipFill>
            <a:blip r:embed="rId1"/>
            <a:stretch/>
          </p:blipFill>
          <p:spPr>
            <a:xfrm>
              <a:off x="6480" y="6480"/>
              <a:ext cx="9131040" cy="61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6480" y="6480"/>
              <a:ext cx="913104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4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Волковского сельсовета Железногор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35"/>
          <p:cNvSpPr/>
          <p:nvPr/>
        </p:nvSpPr>
        <p:spPr>
          <a:xfrm>
            <a:off x="0" y="23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26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Муниципальные программ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28680" y="549360"/>
          <a:ext cx="8351640" cy="4122720"/>
        </p:xfrm>
        <a:graphic>
          <a:graphicData uri="http://schemas.openxmlformats.org/drawingml/2006/table">
            <a:tbl>
              <a:tblPr/>
              <a:tblGrid>
                <a:gridCol w="6680160"/>
                <a:gridCol w="1671480"/>
              </a:tblGrid>
              <a:tr h="582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Развитие культур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5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Социальная поддержка  гражд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2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Обеспечение доступным и комфортным жильём и коммунальными услугами граждан Волковского сельсов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6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Развитие муниципальной служб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ащита населения и территории от чрезвычайных ситуаций, обеспечение пожарной безопасности и безопасности людей на водных объектах  в Волковском сельсовете Железногорского района Курской област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322200" y="4670280"/>
          <a:ext cx="8358120" cy="1040040"/>
        </p:xfrm>
        <a:graphic>
          <a:graphicData uri="http://schemas.openxmlformats.org/drawingml/2006/table">
            <a:tbl>
              <a:tblPr/>
              <a:tblGrid>
                <a:gridCol w="6697800"/>
                <a:gridCol w="166032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филактика преступлений и иных правонарушений на территории муниципальном образовании "Волковский сельсовет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Развитие транспортной системы муниципального образования «Волковский сельсовет»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2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81bd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92360" y="1052280"/>
            <a:ext cx="6408720" cy="43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Спасибо, что посетили информационный ресурс «Бюджет для граждан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Text Box 2"/>
          <p:cNvGrpSpPr/>
          <p:nvPr/>
        </p:nvGrpSpPr>
        <p:grpSpPr>
          <a:xfrm>
            <a:off x="6480" y="6480"/>
            <a:ext cx="9137520" cy="6156360"/>
            <a:chOff x="6480" y="6480"/>
            <a:chExt cx="9137520" cy="6156360"/>
          </a:xfrm>
        </p:grpSpPr>
        <p:pic>
          <p:nvPicPr>
            <p:cNvPr id="52" name="Text Box 2" descr=""/>
            <p:cNvPicPr/>
            <p:nvPr/>
          </p:nvPicPr>
          <p:blipFill>
            <a:blip r:embed="rId1"/>
            <a:stretch/>
          </p:blipFill>
          <p:spPr>
            <a:xfrm>
              <a:off x="6480" y="6480"/>
              <a:ext cx="9137520" cy="61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Волковского сельсовета Железногор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35"/>
          <p:cNvSpPr/>
          <p:nvPr/>
        </p:nvSpPr>
        <p:spPr>
          <a:xfrm>
            <a:off x="0" y="23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0440" y="189000"/>
            <a:ext cx="8229600" cy="90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Что такое бюджет для граждан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1"/>
          <p:cNvSpPr/>
          <p:nvPr/>
        </p:nvSpPr>
        <p:spPr>
          <a:xfrm>
            <a:off x="468360" y="1268280"/>
            <a:ext cx="8064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Бюджет для граждан – это упрощенная версия бюджетного документа, которая использует неформальный язык и доступные документы,  чтобы облегчить для граждан понимание бюджета. Он содержит информационно-аналитический материал, доступный для широкого круга подготовленных пользователей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Бюджет муниципального образования «Волковский сельсовет» за 2019 год утверждён в соответствии с действующим законодательством. Исполнение бюджета рассматривается и обсуждается на публичных слушаниях среди населения. Подлежит опубликованию в газете «Волковский вестник» и на сайте Администрации Волковского сельсовета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Text Box 2"/>
          <p:cNvGrpSpPr/>
          <p:nvPr/>
        </p:nvGrpSpPr>
        <p:grpSpPr>
          <a:xfrm>
            <a:off x="6480" y="6480"/>
            <a:ext cx="9137520" cy="6156360"/>
            <a:chOff x="6480" y="6480"/>
            <a:chExt cx="9137520" cy="6156360"/>
          </a:xfrm>
        </p:grpSpPr>
        <p:pic>
          <p:nvPicPr>
            <p:cNvPr id="63" name="Text Box 2" descr=""/>
            <p:cNvPicPr/>
            <p:nvPr/>
          </p:nvPicPr>
          <p:blipFill>
            <a:blip r:embed="rId1"/>
            <a:stretch/>
          </p:blipFill>
          <p:spPr>
            <a:xfrm>
              <a:off x="6480" y="6480"/>
              <a:ext cx="9137520" cy="61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Волковского сельсовета Железногор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35"/>
          <p:cNvSpPr/>
          <p:nvPr/>
        </p:nvSpPr>
        <p:spPr>
          <a:xfrm>
            <a:off x="0" y="23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Что такое бюджет</a:t>
            </a:r>
            <a:br>
              <a:rPr sz="3600"/>
            </a:br>
            <a:br>
              <a:rPr sz="36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Бюджет –это форма образования и расходования денежных средств, предназначенных для финансового обеспечения задач и функций государства и местного самоуправления.</a:t>
            </a:r>
            <a:br>
              <a:rPr sz="3200"/>
            </a:br>
            <a:br>
              <a:rPr sz="18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Text Box 2"/>
          <p:cNvGrpSpPr/>
          <p:nvPr/>
        </p:nvGrpSpPr>
        <p:grpSpPr>
          <a:xfrm>
            <a:off x="0" y="0"/>
            <a:ext cx="9137520" cy="6156360"/>
            <a:chOff x="0" y="0"/>
            <a:chExt cx="9137520" cy="6156360"/>
          </a:xfrm>
        </p:grpSpPr>
        <p:pic>
          <p:nvPicPr>
            <p:cNvPr id="73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37520" cy="61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0" y="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города Дмитриев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tangle 35"/>
          <p:cNvSpPr/>
          <p:nvPr/>
        </p:nvSpPr>
        <p:spPr>
          <a:xfrm>
            <a:off x="0" y="23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3960" y="-316080"/>
            <a:ext cx="8229600" cy="561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Основные характеристики бюджета</a:t>
            </a:r>
            <a:br>
              <a:rPr sz="3600"/>
            </a:br>
            <a:br>
              <a:rPr sz="3600"/>
            </a:b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Доходы бюджета- поступающие в бюджет денежные средства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Расходы бюджета- выплачиваемые из бюджета денежные средства </a:t>
            </a:r>
            <a:br>
              <a:rPr sz="1400"/>
            </a:br>
            <a:br>
              <a:rPr sz="14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ОХОДЫ-РАСХОДЫ=ДЕФИЦИТ (ПРОФИЦИТ)</a:t>
            </a:r>
            <a:br>
              <a:rPr sz="1800"/>
            </a:br>
            <a:br>
              <a:rPr sz="1800"/>
            </a:b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Дефицит-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превышение расходов над доходами (изыскиваются источники покрытия дефицита бюджета –использование остатков, сложившихся на начало финансового года, привлечение банковских и бюджетных кредитов)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Профицит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- превышение доходов над расходами  (принимается решение об использовании доходов – накапливать резервы, остатки, погашать долг)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Text Box 2"/>
          <p:cNvGrpSpPr/>
          <p:nvPr/>
        </p:nvGrpSpPr>
        <p:grpSpPr>
          <a:xfrm>
            <a:off x="6480" y="0"/>
            <a:ext cx="9137520" cy="6156360"/>
            <a:chOff x="6480" y="0"/>
            <a:chExt cx="9137520" cy="6156360"/>
          </a:xfrm>
        </p:grpSpPr>
        <p:pic>
          <p:nvPicPr>
            <p:cNvPr id="83" name="Text Box 2" descr=""/>
            <p:cNvPicPr/>
            <p:nvPr/>
          </p:nvPicPr>
          <p:blipFill>
            <a:blip r:embed="rId1"/>
            <a:stretch/>
          </p:blipFill>
          <p:spPr>
            <a:xfrm>
              <a:off x="6480" y="0"/>
              <a:ext cx="9137520" cy="61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6480" y="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5" name="Text Box 3"/>
          <p:cNvSpPr/>
          <p:nvPr/>
        </p:nvSpPr>
        <p:spPr>
          <a:xfrm>
            <a:off x="6480" y="6546960"/>
            <a:ext cx="9144000" cy="30708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Волковского сельсовета Железногор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35"/>
          <p:cNvSpPr/>
          <p:nvPr/>
        </p:nvSpPr>
        <p:spPr>
          <a:xfrm>
            <a:off x="0" y="23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Основные характеристики бюджета муниципального образования «Волковский сельсовет» за 2020 год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25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95280" y="1341360"/>
          <a:ext cx="8280360" cy="4319640"/>
        </p:xfrm>
        <a:graphic>
          <a:graphicData uri="http://schemas.openxmlformats.org/drawingml/2006/table">
            <a:tbl>
              <a:tblPr/>
              <a:tblGrid>
                <a:gridCol w="4141800"/>
                <a:gridCol w="4138560"/>
              </a:tblGrid>
              <a:tr h="1192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0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тыс.рубле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429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69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41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38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429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фицит(-)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фицит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+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5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Text Box 2"/>
          <p:cNvGrpSpPr/>
          <p:nvPr/>
        </p:nvGrpSpPr>
        <p:grpSpPr>
          <a:xfrm>
            <a:off x="6480" y="6480"/>
            <a:ext cx="9137520" cy="6156360"/>
            <a:chOff x="6480" y="6480"/>
            <a:chExt cx="9137520" cy="6156360"/>
          </a:xfrm>
        </p:grpSpPr>
        <p:pic>
          <p:nvPicPr>
            <p:cNvPr id="94" name="Text Box 2" descr=""/>
            <p:cNvPicPr/>
            <p:nvPr/>
          </p:nvPicPr>
          <p:blipFill>
            <a:blip r:embed="rId1"/>
            <a:stretch/>
          </p:blipFill>
          <p:spPr>
            <a:xfrm>
              <a:off x="6480" y="6480"/>
              <a:ext cx="9137520" cy="61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6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Волковского сельсовета Железногор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35"/>
          <p:cNvSpPr/>
          <p:nvPr/>
        </p:nvSpPr>
        <p:spPr>
          <a:xfrm>
            <a:off x="0" y="23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044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Доходы бюджета муниципального образования «Волковский сельсовет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Равнобедренный треугольник 2"/>
          <p:cNvSpPr/>
          <p:nvPr/>
        </p:nvSpPr>
        <p:spPr>
          <a:xfrm>
            <a:off x="3087720" y="836640"/>
            <a:ext cx="2879640" cy="230508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alibri"/>
              </a:rPr>
              <a:t>ДОХОД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alibri"/>
              </a:rPr>
              <a:t>БЮДЖЕТ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безвозмездные и безвозвратные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поступления денежных средств в бюдже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Овал 13"/>
          <p:cNvSpPr/>
          <p:nvPr/>
        </p:nvSpPr>
        <p:spPr>
          <a:xfrm>
            <a:off x="279360" y="1173240"/>
            <a:ext cx="2808360" cy="26384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alibri"/>
              </a:rPr>
              <a:t>НАЛОГОВЫЕ ДОХОД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поступления от уплаты налогов, установленных Налоговым кодексом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Российской Федерации,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например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налог на доходы физических лиц;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доходы от уплаты акцизов на нефтепродукты;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земельный налог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- другие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5" name="Прямая со стрелкой 5"/>
          <p:cNvCxnSpPr>
            <a:stCxn id="104" idx="6"/>
            <a:endCxn id="103" idx="1"/>
          </p:cNvCxnSpPr>
          <p:nvPr/>
        </p:nvCxnSpPr>
        <p:spPr>
          <a:xfrm flipV="1">
            <a:off x="3087720" y="1988640"/>
            <a:ext cx="721440" cy="504000"/>
          </a:xfrm>
          <a:prstGeom prst="straightConnector1">
            <a:avLst/>
          </a:prstGeom>
          <a:ln w="2556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106" name="Прямая со стрелкой 7"/>
          <p:cNvCxnSpPr>
            <a:stCxn id="107" idx="2"/>
            <a:endCxn id="103" idx="5"/>
          </p:cNvCxnSpPr>
          <p:nvPr/>
        </p:nvCxnSpPr>
        <p:spPr>
          <a:xfrm flipH="1" flipV="1">
            <a:off x="5248080" y="1988280"/>
            <a:ext cx="761040" cy="405720"/>
          </a:xfrm>
          <a:prstGeom prst="straightConnector1">
            <a:avLst/>
          </a:prstGeom>
          <a:ln w="2556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108" name="Прямая со стрелкой 12"/>
          <p:cNvCxnSpPr>
            <a:endCxn id="103" idx="3"/>
          </p:cNvCxnSpPr>
          <p:nvPr/>
        </p:nvCxnSpPr>
        <p:spPr>
          <a:xfrm flipH="1" flipV="1">
            <a:off x="4527000" y="3141000"/>
            <a:ext cx="6840" cy="322920"/>
          </a:xfrm>
          <a:prstGeom prst="straightConnector1">
            <a:avLst/>
          </a:prstGeom>
          <a:ln w="25560">
            <a:solidFill>
              <a:srgbClr val="f79646"/>
            </a:solidFill>
            <a:miter/>
            <a:tailEnd len="med" type="arrow" w="med"/>
          </a:ln>
        </p:spPr>
      </p:cxnSp>
      <p:sp>
        <p:nvSpPr>
          <p:cNvPr id="109" name="TextBox 15"/>
          <p:cNvSpPr/>
          <p:nvPr/>
        </p:nvSpPr>
        <p:spPr>
          <a:xfrm>
            <a:off x="5003640" y="327960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Овал 26"/>
          <p:cNvSpPr/>
          <p:nvPr/>
        </p:nvSpPr>
        <p:spPr>
          <a:xfrm>
            <a:off x="6008760" y="1074600"/>
            <a:ext cx="2808360" cy="26384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alibri"/>
              </a:rPr>
              <a:t>БЕЗВОЗМЕЗДНЫЕ ПОСТУПЛЕНИ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поступления в бюджет на безвозмездной и безвозвратной основе из областного бюджета (субсидии, субвенции), бюджета муниципального района(дотации),а также перечисления от физических и юридических лиц (кроме налоговых и неналоговых доходов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Овал 31"/>
          <p:cNvSpPr/>
          <p:nvPr/>
        </p:nvSpPr>
        <p:spPr>
          <a:xfrm>
            <a:off x="3129120" y="3463920"/>
            <a:ext cx="2808000" cy="26384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alibri"/>
              </a:rPr>
              <a:t>НЕНАЛОГОВЫЕ ДОХОД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доходы от использования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муниципального </a:t>
            </a: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 имущества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- другие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81bd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Бюджет муниципального образования «Волковский сельсовет» за 2020 год по доходам исполнен на 99,8 % (2669,7 тыс.рублей), в том числе налоговые и неналоговые доходы на 99,7 %. Безвозмездные поступления составили 671,6 тыс.рублей. Налоговые и неналоговые доходы бюджета за 2020 год составили 1998,1 тыс.рублей или 99,7 % от запланированных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нализ налоговых доходов бюджета муниципального образования  по основным видам налогов показал, что основная доля доходов приходится на: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- земельный налог с организаций – 1693,5 тыс.рублей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- земельный налог с физических лиц – 168,4 тыс.рублей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- налог на доходы физических лиц – 36,3 тыс. рублей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 Неналоговые доходы в бюджете муниципального образования «Волковский сельсовет» за 2020 год составляют 5,2% от общего объема налоговых и неналоговых доходов. На долю безвозмездных поступлений за 2020 год по кассовому исполнению приходится 33,6% (671,6 тыс.рублей) от общего объема доходов муниципального образования. За 2020 год в общем объеме безвозмездных поступлений межбюджетные трансферты составляют 35,3% (237 тыс.рублей), субсидии составляют 51,8% (347,7 тыс.рублей), субвенции– 86,8% (12,9 тыс.рублей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Доходы бюджета муниципального образования «Волковский сельсовет» за 2020 го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3" name="Объект 6"/>
          <p:cNvGraphicFramePr/>
          <p:nvPr/>
        </p:nvGraphicFramePr>
        <p:xfrm>
          <a:off x="406440" y="1549440"/>
          <a:ext cx="8331120" cy="462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" name="Объект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1549440"/>
                    <a:ext cx="8331120" cy="46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Text Box 2"/>
          <p:cNvGrpSpPr/>
          <p:nvPr/>
        </p:nvGrpSpPr>
        <p:grpSpPr>
          <a:xfrm>
            <a:off x="0" y="0"/>
            <a:ext cx="9144000" cy="6168960"/>
            <a:chOff x="0" y="0"/>
            <a:chExt cx="9144000" cy="6168960"/>
          </a:xfrm>
        </p:grpSpPr>
        <p:pic>
          <p:nvPicPr>
            <p:cNvPr id="116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 Box 4"/>
            <p:cNvSpPr/>
            <p:nvPr/>
          </p:nvSpPr>
          <p:spPr>
            <a:xfrm>
              <a:off x="6120" y="6120"/>
              <a:ext cx="9131040" cy="61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8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Волковского сельсовета Железногор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932360" y="1484280"/>
          <a:ext cx="4038480" cy="2185920"/>
        </p:xfrm>
        <a:graphic>
          <a:graphicData uri="http://schemas.openxmlformats.org/drawingml/2006/table">
            <a:tbl>
              <a:tblPr/>
              <a:tblGrid>
                <a:gridCol w="2417760"/>
                <a:gridCol w="1620720"/>
              </a:tblGrid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35"/>
          <p:cNvSpPr/>
          <p:nvPr/>
        </p:nvSpPr>
        <p:spPr>
          <a:xfrm>
            <a:off x="0" y="23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8000" y="189000"/>
            <a:ext cx="903600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Структура налоговых и неналоговых доходов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бюджета муниципального образования «Волковский сельсовет» в 2020 год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37"/>
          <p:cNvSpPr/>
          <p:nvPr/>
        </p:nvSpPr>
        <p:spPr>
          <a:xfrm>
            <a:off x="179280" y="1106640"/>
            <a:ext cx="84646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8000"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Собственные доходы всего: </a:t>
            </a:r>
            <a:br>
              <a:rPr sz="1800"/>
            </a:b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2020 год – 1998,1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тыс.рублей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7" name="Диаграмма 6"/>
          <p:cNvGraphicFramePr/>
          <p:nvPr/>
        </p:nvGraphicFramePr>
        <p:xfrm>
          <a:off x="1474920" y="1341360"/>
          <a:ext cx="6278400" cy="41086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8" name="Диаграмма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74920" y="1341360"/>
                    <a:ext cx="6278400" cy="410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30</dc:creator>
  <dc:description/>
  <dc:language>en-US</dc:language>
  <cp:lastModifiedBy>Yana_Volkovo</cp:lastModifiedBy>
  <dcterms:modified xsi:type="dcterms:W3CDTF">2021-03-20T19:06:55Z</dcterms:modified>
  <cp:revision>196</cp:revision>
  <dc:subject/>
  <dc:title>Презентация PowerPoint</dc:title>
</cp:coreProperties>
</file>